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0FFA-7F34-4AE4-9443-84D65FD52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EE14-46C9-427B-9225-2C8D693B2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4382-5605-441D-9A53-3015A723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F770-BF28-434C-93F9-3916BD2B3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8272-009D-46AF-B162-3F086773C5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D314-6B95-4BDA-A526-B9D00B099D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39DB-1F86-4B08-8CF9-1AF11D2C6F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6B13-456B-404B-907E-D0BD4F955E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6175-06E0-4DE3-98FA-3E397183F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09EC-B45C-4E17-90F8-92FBF56AD5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0317-DA41-4B24-A565-EB6A329F0B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C5CE-49C3-4373-9886-72660A2C3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4921-CCBE-44CE-88D3-71384955B1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76D2-8D7D-482B-A0C6-4C8F543CB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BB70-9EED-42C5-ABEA-D813D06DA7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77206-478B-4ADF-A58F-8CD71F240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1BE0-4EB0-4238-B877-8B400F0285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4F2-BC50-4E1C-BA65-EE2DE562C2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9D7-4F73-4CED-BAF0-1EED8FCD75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1DE-49DC-425F-BD8D-E158A2AC15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BF7-7480-4E87-AC52-56DAE0A39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2C6-5D17-4DCA-820B-153689870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C9B9-CFE6-4337-BB79-90DB1C7F59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E34-0240-4596-BD23-A08700D4F8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2AE-8BBC-44D2-BA61-D7441105E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BAB-C30A-4F76-ACC7-09448E07B0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96C-58A2-4169-B32E-EA6F8B1800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6F2-95DA-462F-94E0-A567B4AA55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587-DFE6-4314-BD50-DA9508190E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1E7-BECE-473E-B3C4-B99325C0BB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B35C3-92EC-4B6B-9F82-2CD774615A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8CF8E-ADF0-4948-BB2D-484DE89372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09D11-FF65-4C52-878B-E65F6EDC0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B130-D5E9-4AB3-8363-E6B19EEF18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6D8C7-D2B7-43ED-A682-7BD1367B90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8133C-C3B4-454F-83FD-14B271D275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0A9A8-A7B0-40C5-AFF7-26B5574C39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05C20-11BC-47CA-BB2E-27ED4E6F7E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E10F6-80E1-4E86-88FD-ADDA3E87EE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4368-2605-408D-82D3-A4C24CEE55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DD375-3307-44CA-BA9A-D623764F78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FD144-88B5-4D6E-9DA9-38AAFAE2F3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452C-1A11-4307-8391-CEF16E88B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5ACA-F5B4-4117-979F-EB1757C8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164C-B03F-4761-BC53-1E83A60B1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D806-F7AB-446C-8CFF-1381CBE4F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B47E-CF53-48A2-91C9-34889572F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7B03-F736-44FD-83D4-12E25E2F9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030-65A3-416B-A648-59F29B4C628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DB1F-DDBF-43F5-8EAA-CA85C88D015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7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4FCC-7B46-4662-A5C9-54514663F19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26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044B-B44B-4C43-B00E-37EC03E7800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Bell </a:t>
            </a:r>
            <a:br>
              <a:rPr sz="6200"/>
            </a:b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Ringer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vocab word is most important to daily life in China and 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679040" y="8889840"/>
            <a:ext cx="3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E5A-BA00-475E-A967-F62A435CB4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 5: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 6: Geo c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10679040" y="8889840"/>
            <a:ext cx="3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303-B50F-4E96-8722-368C8790DB7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7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Ancient China Intro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5 reg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Tibetan Plat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western Dese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eastern 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 China 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Chang Jiang Bas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8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Tibetan Plateau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Rocky soil, dry climate make growing crops difficu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Early people herded animals that could survive there – mainly ya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aks provided people with meat, milk, butter, yogurt, wool for clothes and shel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9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12128400" cy="200340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Basics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274840"/>
            <a:ext cx="13004640" cy="747864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t">
            <a:normAutofit/>
          </a:bodyPr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atural barriers isolated ancient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ast: The Yellow Sea, East China Sea, and Pacific Oce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est: Taklimakan Desert and 15,000 ft Plateau of Tib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outhwest: Himalay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North: Gobi Desert and Mongolian Platea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ountain ranges and desert dominate 2/3 of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20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12128400" cy="200340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ctr">
            <a:noAutofit/>
          </a:bodyPr>
          <a:p>
            <a:pPr marL="41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Lucida Grande"/>
                <a:ea typeface="Lucida Grande"/>
              </a:rPr>
              <a:t>Geography &amp; Culture</a:t>
            </a:r>
            <a:br>
              <a:rPr sz="6200"/>
            </a:br>
            <a:r>
              <a:rPr b="0" lang="en-US" sz="38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Challenge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41200" y="2185920"/>
            <a:ext cx="13004640" cy="747864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514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99000"/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isastrous </a:t>
            </a:r>
            <a:r>
              <a:rPr b="1" lang="en-US" sz="38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loods</a:t>
            </a:r>
            <a:r>
              <a:rPr b="0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from the Huang H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Only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10%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of China’s land is suitable for farm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514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99000"/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graphy did not make invasion impossi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3365640" y="5613480"/>
            <a:ext cx="5786280" cy="38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1-06T13:10:46Z</dcterms:modified>
  <cp:revision>4</cp:revision>
  <dc:subject/>
  <dc:title>Bell  Ringer</dc:title>
</cp:coreProperties>
</file>